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37B9-127E-4FDA-B76F-EBC8EF8C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943B-5762-4486-B3E6-81AA081E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D538-C4D2-44FA-ADB6-162B89DB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DB5B-35CE-40E7-88ED-619E5C75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EEE3-8F8E-4ABA-94BC-D8E0C6F5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040B-506D-4E43-BADB-2672CE2B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3E36-BC17-4899-BAAF-D851A395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98EC-D149-4586-8D4E-BAC0D3D7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9AF7-CA5A-4BC7-9F55-E2617B49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B2A3-C1AF-4C34-9FEE-1141DEF7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4D091-B137-4709-BB2F-8251EC2B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A6E3-9DFB-478B-A7F1-B46FFD84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3A18-DD99-477F-B6B7-A65DE0AC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8580-6FC2-400C-A057-81BB36A1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CEED-A0AE-4BAD-A050-EFE1B639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5093-50EA-45F3-9F9A-80B12205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1A8B-9044-411E-8783-6A97C7A2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608-307F-4A35-B149-7FD35AED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20A8-F8B5-4C6D-9FF3-EAFEA397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E45-7590-4B04-9A75-631173B7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42AB-2F74-4FC2-A362-82240C0F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862-0319-4C51-B9E9-749F8E61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95C-195E-41B0-B2FF-53F49857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3BC-3AD8-43EE-B294-155FB4B9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E6C9-280B-4B2F-8604-9CDF9890F1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1C22-946A-40BD-A054-43B060B020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ivil War Medicine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ource of Injury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nie Ba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 or abdominal wound was almost always fa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t to the limb would usually shatter b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d dirt, ger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made of l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Diseas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estimated at most, 1 of 3 deaths occurred from battle wo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died from dis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hoid (leading cause of death):  Caused by bac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mach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sentery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ading cause of death):  bleeding and inflammation in the intes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hydration is a major conc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neumonia (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ading cause of death):  Lungs become inflamed filled with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g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be bacterial or vi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berculosis: deadly inf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y c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st 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aria: often caused by a bacteria-carrying mosqu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emic (weakening of red blood cells) sympt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ource of Diseas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sanitation in cam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ing food/garb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minated water sup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lmonella: bacteria in food and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life-threa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result in typh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nesthetic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loroform: 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jor anesthe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ered with a cloth held over n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d body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oo much used, it could put soldiers into a coma or lead to 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er: Similar to chloro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explo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skey/Alcohol:  Used to dull pain/relax the inj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commonly used in surg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Medici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nine:  used to reduce fever; prevent organ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phine:  Painkiller, administered orally or as a sh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ium:  Oral painkil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y addi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odine began to be used to clean w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used in extrem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ivil War Hospital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ly tents towards rear of battle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r houses, barns, churches, school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s lay on straw/h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48320" y="2606760"/>
            <a:ext cx="40384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Amputations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5,000 injuries to federal troops in limbs, 30,000 ampu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treated wounds to limbs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%-80% of wounds were to the arm and l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erformed within 24hrs, success rate of 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ngrene:  rotting of flesh due to poor blood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common after surg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20:22:22Z</dcterms:created>
  <dc:creator>Christopher Johnson</dc:creator>
  <dc:description/>
  <dc:language>en-US</dc:language>
  <cp:lastModifiedBy>Christopher Johnson</cp:lastModifiedBy>
  <dcterms:modified xsi:type="dcterms:W3CDTF">2007-01-31T15:57:32Z</dcterms:modified>
  <cp:revision>4</cp:revision>
  <dc:subject/>
  <dc:title>Civil War Medicine</dc:title>
</cp:coreProperties>
</file>